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FCE-00EA-4662-A100-2DF7D474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6AC-7735-4FBF-A061-2976125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00F68-BB30-49CB-BB9B-A2A191A8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FC53-09BF-466B-869D-C3BF3A14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9829D-1E94-4711-AE07-24A3E48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E4254-BAAF-490A-9FAE-396D654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44269-DAF0-4D61-91DF-4ECB0F7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F3013-7327-409C-A68A-D524025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A8E90-276A-4BD1-B2B2-9C94D903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AA7E0-3628-4926-AB29-EF6F397F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3B0D1-1FDD-460C-B19B-72D15945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E21C3-DA62-4CDA-94A5-40D8D6C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9F8-4C72-4D69-9497-6F6BE72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A4822-506B-4528-B282-D1D7B21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2C37-0DFD-4777-99D0-07CFB3F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4413F-369D-4342-BE33-854B55B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EA77A-85D3-4967-BC62-0EFFA12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DBDEC-723E-4076-8E13-6187AAF8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C43C0-5332-4C54-BF49-3E2E362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AC3B1-FA01-4C32-82CC-63FF746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20E6-5171-40EF-AFB6-656978F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CBBD3-57FE-4B23-969C-6934417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E2AD2-096E-46B0-950D-7FFE68F9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34B-D372-404E-ADDD-D647F5B6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FB8CE-3CDA-490A-A493-D7724352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9F8B-BD85-4262-8299-61E5070A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B5570-1794-4086-9314-ABDB659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959EC-E482-4DDC-A8BE-B9E0DDA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6F3C2-DDDA-4461-8B0F-D436A05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B6C0-2AE1-4890-80C6-ED8EC9D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C3820-AB0F-4679-8AC3-B270531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6FFE-664F-4795-AE1B-3A80D26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1FEDA-63FC-444B-B014-1A1C18E2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72A00-CD45-4F03-9D0D-B7D61BE6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11ED-47C0-493C-81A8-99FB0BB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B46E6-BB33-4AC5-A6CD-9A9CFACF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D874-9CF5-4777-8CA9-DCC1AB0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2A90E-0EFB-4EFC-A8A3-489C22B1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F2BB9-E913-427C-81FA-08C7B289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308AE-83D9-450C-8C37-B2FD0A0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AA380-33DB-4250-A8E1-0C6A9833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A57A4-8DF5-4A52-BE4E-F289DAC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5015C-DD9C-41B7-A2DF-DFD693D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C3232-969D-4F4A-B5D3-F4194F40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32CDD-1FE6-4C82-93C5-D3F78EC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7D5-9564-42AD-A9ED-AB0EB6C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94171-B55D-4245-92FE-70F28F6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293AA-4596-4061-99D3-38CE422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44037-984A-4D17-A1B3-F30C068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275E-F222-4EDA-910F-A492DB93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6E63-75D7-4A79-98EC-FCBC4D44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1E433-D617-4604-B49F-7B5A4F39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05B7D-93E5-4562-A947-BAA485B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20FE2-647E-4F5D-AF3D-7543FC4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5233C-8B18-43E1-B956-8E0A665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73FBA-D4BB-4F71-9B36-A6ED35B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1610-1751-46BA-8E65-769F572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4DBFB-0212-4D7F-A009-98FE86DB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7FCE1-EBFA-4B37-97ED-B3D606A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FAF7C-2805-4FB1-B87F-9CD726D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CE37A-8098-4D98-AB4C-3286362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A7D29-16A2-42A0-BA47-DB01EBDB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39AE4-201D-435B-B499-478E6A19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D843C-E968-487E-B4DC-DE996C43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BBA09-F7A7-49CE-8663-C5861AC4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A019C-65D8-4E9D-B4B1-ABE8FE8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8A6BC-BABC-4091-B0BA-AFA9F0B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4FEC-852F-4C72-86F1-85DDC95F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9CDDA-2B55-4F21-8140-787BEF61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5E38D-9F1B-4D27-8F2E-EBBDB8C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F2E4C-4D46-4F0C-98C6-7489DFF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741FE-E48A-4085-9DC1-2CECD86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E7DB9-4295-4B5B-B3A7-5D2DC02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3B5D7-8DDA-4EDA-948E-31040B4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BE16E-4369-4E37-96D4-BA6C434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FD2A0-EABF-472D-B4A0-CC410D37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FD7FE-19D5-46BA-9265-AEF4D52A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A86D8-817D-448C-ABAF-1A0F77FD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EC4E-52E7-4987-81C5-195C3662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D7827-417D-40AF-9044-84E857E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4E88D-E958-4460-9E69-C558E23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B05AC-182F-491A-ACA4-1B40C95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C002E-B87A-4315-98C5-C6FDA6E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6B971-2E5B-48DF-A308-7EB8FC5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5F681-4F7B-45C5-B4B0-CE541EB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D4C9E-F742-4A67-B84A-B6D77873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1A313-A1CE-4118-B706-A090CC7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333FD-13C3-4987-83A4-389C06C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EA89E-F0D3-4296-9F6A-D6BC3164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3AFD-1FD6-4C51-B108-98E12AB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EEB7D-B0BE-4F50-9037-D318D21A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E59F3-0FCC-47BA-A5C1-5F771E14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55EEF-3603-4831-A927-8580920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F7D12-2E41-4A17-AD88-23344F5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F55AA-B089-4EF8-93C7-6975980B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73E43-0A77-49DF-95B8-5E2A39F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C11E2-C02D-4623-88CC-AC8081D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2CACB-F3E8-4829-9128-85C4913C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D06B2-40EB-49F7-8C59-0C519B9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242F4-6C61-4A0A-99E7-7FE3AB0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6C4-8E1E-4C7F-B6AB-1B693A9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58D7B-F891-4F78-9E61-698912CD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4F1C2-6202-4A7C-8266-083D2BB1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FDF34-C4F4-42AC-ACDA-1D4C2F6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47591-3D06-4A63-8E35-F2231480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EB029-6B16-4F6C-94EA-B803CB2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68BC3-767D-4385-A603-A3F0EF1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D8470-930B-48FD-825E-37316848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DA5F6-441F-49DA-B972-B5FF6D86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7D171-F64A-4ED6-9316-2B908C6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A07C7-866D-42FD-9E70-E3E32DA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1C4-DF96-4EB2-B8AF-9D01A1BE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3898-3275-4504-A9FC-6355F85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D6694-D69B-4787-BBCE-395E13F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EAD0B-DCF1-4AE0-9AD4-C6B01B9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16EA4-D575-4DE2-9983-EFB2C842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D601A-6963-4F7B-B56F-7F84ED2D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14FF1-A3D8-45CD-884A-C0677F66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50BB0-8DD9-405A-BAD3-E95CD365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69244-6A02-45CE-8323-1B8855A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67F6A-5AA2-443B-8E9F-73162F7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E944D-9009-47C8-9778-728CF42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B4738-4F2D-4DD2-94AF-2FCF200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DE2-7FE4-49F5-AC15-262E5C9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46229-9A67-4F81-AE10-01A3D736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139DF-F869-4277-AFA4-4DA6BF0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69FE1-DE22-4C16-87B3-8605FBC8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6C7DA-1B37-417F-8A7B-728980C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82459-A15C-4ABF-8622-2110E93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FD31C-6E60-4ACC-A921-09B8A3DD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5302B-06E1-4757-B9F7-C05D592E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07584-F992-4BF1-8943-19B2DA76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1999C-F329-4CC9-8076-CB6CA0A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D9F0F-4CBA-40C9-B029-7DFCA641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2D8E-A17B-4851-8AF8-C27A097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9BDC7-4D71-4D8E-995F-CE842A4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F9344-C25F-4261-A77B-500F541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5523A-BD28-422E-B7F7-860495D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6D3B8-E9FE-47AB-B212-A049ED0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A05A3-A323-4A22-8968-3938BEA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720A7-F310-45F2-8185-0A023BC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61953-B421-4776-818B-EC74E69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671A9-A13B-401E-890C-6371ADEF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D2E56-137B-49A5-A0AE-66E45892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B7E64-1D15-460E-8D1D-29052133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F183-5C3C-4B29-8D88-1B786155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FD4B1-AD99-4E6F-9E6F-7395CFB9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49548-FDDD-4F3B-9712-97B87BD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0847D-3EC2-494F-8B64-EBC2255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183CF-92AA-476A-96EA-E56D76C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04595-4502-4A0F-BA74-52DF437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F3A81-B0A4-465C-A407-07F3B59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2CCE8-9BEB-45FF-B508-78F28F6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AE084-04FE-4946-9323-E4D29CF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8E2CE-2F9A-4489-A62F-681E0BE5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DFFAE-A00C-4068-B902-86FBC8DD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A36-1E1F-4AFC-B029-CDD65328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E220C-1FD7-4F5A-84A3-799AB769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BB244-DE25-4832-BD21-F4CC35FA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24864-5FA6-442B-93A8-124353FA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1FBA3-77ED-4B85-B838-8E7FCDBC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BB47F-60AD-4FCC-8E61-0FD605D3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CC2CA-7AB6-480E-96BA-46AC6494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D1A57-D6DB-4820-8C5C-8516960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107CC-AB8B-4A10-9920-39A7890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22B15-15F5-4A71-8F26-B1AE523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C5328-B6AA-4D8A-9F83-3412614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BE42-DEAF-4EA7-A1DD-4264048D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62023-DCBE-447E-BA10-F086709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CB1FEB-359D-4F48-A17D-8CC70CE5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625F6-6165-40E1-B2E4-7D7B2CC8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19C39-F9FE-4A6C-AA25-84D083DF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A484A-820B-42EE-99F0-ADD7BBC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0ED5E-B59D-4F76-84E5-F7C283B3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5973C8-0EEA-4FCB-8CBA-33E1A97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911C99-3C55-41A5-92CE-7980E7B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AF7B6-ACD5-4E19-9AF5-3A389CDA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0E495-6E70-46F4-B8A0-29C1339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44FD-9B54-4C91-95EC-F14273F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117DE-47BF-4633-A9C6-C808C1E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4AF0CC-6CFE-42A8-ACAD-78912CE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45AAB-1889-44E8-A05D-3EB97932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8592C-DA4C-4D37-B446-B144FB22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B0346-8362-4BD2-991F-511DD22A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E6A0FD-4E64-4ABD-B434-D9047B22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5F94D-429B-47FF-9BCA-200595D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5DDEA-5568-43D8-85BE-A430BA9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3669D-9C8F-4DD3-85ED-5611B82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C9AA3-11B9-4E0F-8B8E-2A92A47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1CC2-7710-46B7-A354-5ECB4F5A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77A342-8AB7-4581-A15C-0CA3E053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BC28A-E10C-4D2C-9CD8-1670779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8AAB5-B33A-4D38-A050-6E2E275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4C52E-A9FE-42CA-8462-D7C6F66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B6CA79-F6AD-4F91-9713-FAAED8CB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AFD300-CEDA-4C8B-8AAB-D36F1D91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066660-B5B4-450F-8AAF-1C45B202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A59A5-2805-4E8A-8363-F6BA1F68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9C6BC-0B4D-4A1B-B06A-67D0D6B2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7DA74A-EDCB-4D5B-B67C-8456DCE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0F0E-217A-416F-AC1F-FE39F368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EA6BDE-A955-4C73-8ECE-EAE97CA1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232CA2-CC4A-4126-B767-2B179B4C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CFF71-0B7B-4355-ADF0-E3C80D27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930160-CC35-4FC3-A139-786BDB5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CCFFC8-11CC-4C45-ABBD-13A74C2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E93D77-A366-401A-B4A9-2390CF4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4DDDA0-00D2-4330-9595-5631729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74CA60-0FE5-45AC-B89F-5716C33E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C13EF2-2AFC-40BD-BBCB-3CC65B1D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29413D-BE64-4FC9-ACE6-683D1EB7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3C05-D2D3-4AF1-A7FD-5D2940E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68C820-F946-40BD-BE1A-C5840E4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C3819F-03F7-418B-8CD8-89108856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49E529-3825-434F-801C-5C74233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915545-16B2-4080-888B-7C74A69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8FEA19-28EA-4345-BEFE-8C5BAC4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50AC03-EC73-44B0-86EF-8F0496A2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059FA-728A-4A9F-AA63-CFF9CD5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099490-F5D7-41FF-8045-3AA1408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6FC2A7-A639-41E6-9B18-DC503DF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171F14-61B9-4D6D-AE3B-DE350A25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934-3644-42D9-AF46-58636E9F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205B-422B-4445-A1CC-9A369483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9E968-2B13-4E57-9650-185F407C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82F27-B531-4B81-90AA-E9EE4C82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79A670-0CD7-4AA4-B4CA-51EF073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91F76-7CA4-4278-BDCA-FAEB8BE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56D93A-DF8D-40AC-9EB4-80524E4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8151BD-EC3F-457F-A963-40B1DAF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DFEF61-6AE3-4ECC-ACD4-06C6C0E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BEC19D-E75F-4A1B-8B94-8E99240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40439F-C4CD-483F-BD9E-5D5E93B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4A57C-1981-4283-8CED-2CB0ADE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C146-6FBE-4213-84B1-B7990D9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EFE2BA-D183-4776-91B2-5399E65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E7906-1808-489C-ACF4-517C88D7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0C586C-3956-4239-A78C-44049BF0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243B6-0884-4D63-BECC-5CEE6C79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EF3FA-AF23-4F12-A2AD-5D885C0D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947930-FC57-4F48-8C63-550AFCB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90416B-C3F0-414B-98B2-C485F5B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4EBA9C-F4D3-4144-8CD5-4CF312D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137AC-D1CA-4087-A75B-D7744FD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B35DD5-10EE-46E7-91D3-17C6BFB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7A8F-EC20-47D3-A46C-4E959AA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BA3BF1-C588-4E6A-8DAA-E339F30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93C7D1-049A-4D45-A617-83E8F39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F935FC-8E85-4367-B75A-44A495F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08CC9-B3C6-4F49-9CF4-5F4C4B23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202D3A-0551-49BF-B3A9-4B65B06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317859-0113-49A2-AC1A-653982F7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DE0A11-FC08-4519-96CA-2039FCD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EC502F-3DF2-436E-AE81-44F09EF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4EAF26-8DA2-4B7E-AA88-908B4A1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DA102B-CA8B-442D-8AC0-D2C1FBD1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58A0-2D0F-46D0-92DD-48709EE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4B248C-3B36-45F7-8B55-1E4E762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A2B0EB-DFB7-470D-8EDC-EE36BF4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1D5020-420E-4E28-9F56-7FB893B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46C176-9EF0-45A6-8D6D-6C5ED9B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F9C147-C8BB-44F4-928F-323FAD4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BE0704-4D85-47B7-A281-2432D08C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B06468-B5D8-4A24-ACA5-09F5F6B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996160-0F37-4CD0-80D0-B1736CB4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6947FF-2641-41FE-AA1B-603C894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EAE845-87A1-4863-9A7E-78883D3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20C3-07A9-421B-B1DF-F699F813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86BF27-BF2E-41E0-88C0-3AC41FF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B64A4F-C47C-441E-B905-3FDD7AB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8FA38B-4245-408A-951B-A26462F6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B536EB-A3B6-4F2E-8502-461A3AF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6E421F-2098-4B36-9E30-355811B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D3EFAD-C7AB-4A4A-9AA7-2DFAD74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54110D-CFA8-493A-9AC4-A9F2DD8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391F5E-A8E6-4FAF-A940-0A3459A9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DFFDD8-74A8-490C-B115-B1E1274B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9ACCB0-E4FB-4C46-904C-B80E2328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32AC-6815-4438-9253-A5A8705A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5C7F2D-F1CF-42D2-8CE7-B6168F8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C87A70-AFDA-4CD6-BF53-99CD3A0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18E32-5F5C-442E-949B-119FF07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A685C9-23EF-452F-8BDE-18A26D2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A2392B-B476-40E0-8073-5965056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670533-E7A8-4EE2-AA59-E8A8EAE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E139FC-5D14-4ACB-96EC-39A55E3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D5B409-3B25-479E-B099-47920466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3A49EB-F628-45B8-BA70-53835C7A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BAB15D-E60B-4EB5-955E-D535C8E9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1A4D-D9F4-4E83-81BC-C7C4560B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66D441-587F-4D1E-B18A-CBB84760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CEB13F-46D3-425A-904C-96175BBB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3BC1AE-B22E-4463-BF4A-06C7316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C4D017-89E1-4054-80CC-D2371830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1694E6-7E53-42DD-BE99-FD7C011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0823AC-0004-4970-B389-4F9B1788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AF6F08-4B48-44F4-9901-065FDBE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D9253A-BD8D-4918-8C06-BB04FC7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C6897A-F233-46CF-B729-D9168D5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E7126D-5443-45DF-B204-6531A8F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E2B6-A508-4ABF-B907-C9E43187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CBF883-A472-4911-90E5-3BD5F88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CCD9C0-2238-4964-AD28-D3A99D73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D9620D-22EB-45BB-96FE-1590DEA0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FD0F-A125-4964-A749-91968411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0B22-F616-42CE-9094-77C9912A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359-BA44-42FC-8030-2D0700F7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249D-3A1A-4219-B450-1FD2E9C3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C311-D82E-491F-83AF-92E8F188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CC33-8736-47E4-885A-D6E35B7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BF1A-7634-4D34-BE3B-58904FA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E68F-3403-414A-9683-BCBAAE1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E520-3A9E-4DE1-AEB0-D0C59B8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398A-E6FD-4169-A6DF-88E8E21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634F-AEBE-42B2-9DA7-00F92056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8BAA-9443-4231-BEE1-A1EFC461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0784-C9D0-433C-9FA5-8B3F26D9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4B0-316B-4A25-9E55-5DE6950D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4FA2-77DE-4BCB-AB11-8B44BDE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F371-05D3-4F33-8B0F-69FAF63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B9C7-60A4-420B-BAF7-03E730D6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C2E2-3759-430A-A965-74DDB36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EE29-F4CF-49A8-B8B3-864A3569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7F29-9F26-4271-BAEB-C357D7D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D222-B12B-4942-ACB6-FF7F02FE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2B4D-8266-46BF-9050-58A95A5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21CF-D144-4BFD-A1CE-76140C9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FF63-5807-4A38-BEB2-E60593A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0D3-A3A4-440F-9E91-12BB3E9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241F-8F38-43D6-AF61-52D20F6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A5F1-0403-474D-83D2-1A7D7247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0E461-E08A-4864-9E3C-3002716E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AA8FA-3791-4FD0-B2DD-B84523D8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D3B6-6D7B-49DF-B7F1-299AB67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2922-181A-467D-A6AE-CDC73D2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E319-25A1-40F9-9143-76ED94A2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3D39-175E-4930-BAA7-D2E7061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5347-514D-43D5-A7F5-231197E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5BCC-C564-4717-AF25-7566D1F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ADD-9B93-4E11-A6B2-0F6004F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A868-2272-49CF-9574-0EC14DE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715E2-860E-4CF0-B5AB-1B406CEA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61A8-22CC-4533-9C9C-26500165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F674-05AB-41AB-BEB7-4BF55810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1337B-E3E2-494C-A5AD-3A752BF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9023-626C-4273-A362-A49005E5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D023F-06DC-4198-98AC-C5150FD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8AE6-72C3-45DC-93DC-F9AD00F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4197-56AC-474B-9AC6-5D90F48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CC5E0-0B2C-4EC5-A31A-2FACAD2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6C3-D333-4E5C-83B0-841F654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A397-2DF1-49B9-8F4D-2C46A49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8807-F432-4136-B505-511EAC36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88E9-3E7A-4D6E-824E-0D7572A2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0A2E-7E8E-4AC5-875E-28522CFC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C83F-32A5-4292-AED1-977CA03E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FF5A-A5C7-4CBF-8B28-923B0BAE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6B77-BDAF-452D-8D4F-B7B5751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BC2F-C629-4C89-A8DB-7DC3BE0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D136E-BA99-46BF-B88E-9CEAB5B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31FF2-A679-4424-A3CD-4365ED2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DD2-655D-41BA-9A8B-B5CC5D2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F5A0-CA1F-4667-BC26-F0C23074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9D717-0E71-4E1E-AACB-ED2E356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19644-F1B0-4550-B0AD-508AB5A4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7D81-9642-4E59-AA5C-DDF84ED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EA3EF-FAFE-4E1A-9C31-0F1D8DB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9046-5C28-4BDF-B4C0-0DF69E4B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7D192-F19D-47B4-B1C5-6C4D6AB8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6F257-2217-4E70-8766-2B7B8675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470F-E5E5-4ACC-BC13-263924A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D7E2E-AE40-4D04-BB32-14B5BF8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FC29-07E3-43AE-884F-1DEB63FCF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8B0-2A5D-46D0-874C-226ABB276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362C-6B23-4821-93F9-38E31E276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82F-237D-4365-AC90-874DCDC297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8AB-E38E-46A1-8E3F-7ADE90B564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CF1-81B8-440D-BC68-907AA4701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AF2-CBA6-4FBE-818C-A5944BE3C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E30-65A2-4FCD-BCDA-0F224DB92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6FC-6E60-4761-97D6-06FE92B54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33E-A362-485B-B674-5222206B6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FDF8-925C-4164-A832-CE139E0A0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742-7420-4560-A100-79A65C3FA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D5A1-E8D5-4B36-AE12-D11B060A8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93B-9D88-448A-8B35-BF3EFE4B4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DDF-6162-43A4-9365-79E558656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DE1-77B0-46CC-9D8B-8BC57B0DC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A5F-1661-4AE0-BCDF-258758436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8060-FDB0-4819-B530-F594230F2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344-BE03-4EA5-9DE8-584ABDCE4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47D-22FB-41AD-97B7-3C6FF1EB6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9DB-052B-4DA6-9051-933960C54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9BF5-1BE0-40E7-9B3A-885E46936D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C7C-4F4A-47F8-B901-2672B14A7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541-6567-4E7B-9118-FC95A94828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389-F344-4DE7-B225-C69A94501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D07-D137-4088-97F7-65F976FF9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0D12-2D4A-42CC-AC16-B716B6DC08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E6DE-1E2A-4AFA-83A6-1BDD89B8B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6520-26CB-4024-B35F-79CC26B6C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80E-3F56-4C8E-9EE9-82D5466C3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5D03-ECA2-4B26-A814-46F19A2F9F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137-F485-4662-9791-A744C3EE3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528-B2BC-4739-B640-887AF8FA6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68B-7557-4C0E-A178-629E4AA26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C12-CD7C-44E8-A74F-0C41CD025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D40-14C5-4B93-81E6-C046FCBC3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DAA-EE74-46F7-8769-9D3D6FF4F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E32-B24D-404D-A0BC-05B6252A30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2F3-6954-4E22-9D72-54B20EC41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516-6F0D-4F9C-BBBA-ACBBC6FB0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BD04-F2CE-4F76-B28C-9CEBE1CEB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EF7A-A573-42BF-85AC-112045CD6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B51-8852-4FC8-8123-CB1109BDF5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102-2348-4304-8A4B-F2776242C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799-91A5-4906-8AD2-C81CC2386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C4A-28EA-448D-813B-80B8EDCD5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D4D-CDAB-40F2-A2C5-1F6F3FD02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B371-02FC-456D-9B17-82176010A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15C-42B8-40EF-8B61-445119396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F3A-C2EB-465D-9248-D3E09A140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828880" y="1079640"/>
            <a:ext cx="3029040" cy="4572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020600" y="2178000"/>
            <a:ext cx="3038760" cy="453384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4816440" y="3067200"/>
            <a:ext cx="3067200" cy="11808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6013440" y="3019320"/>
            <a:ext cx="1973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4832280" y="3362400"/>
            <a:ext cx="3192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4756320" y="3654360"/>
            <a:ext cx="319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743360" y="3997440"/>
            <a:ext cx="3192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2097" descr=""/>
          <p:cNvPicPr/>
          <p:nvPr/>
        </p:nvPicPr>
        <p:blipFill>
          <a:blip r:embed="rId1"/>
          <a:stretch/>
        </p:blipFill>
        <p:spPr>
          <a:xfrm>
            <a:off x="231840" y="839880"/>
            <a:ext cx="8020080" cy="5457600"/>
          </a:xfrm>
          <a:prstGeom prst="rect">
            <a:avLst/>
          </a:prstGeom>
          <a:ln w="0">
            <a:noFill/>
          </a:ln>
        </p:spPr>
      </p:pic>
      <p:sp>
        <p:nvSpPr>
          <p:cNvPr id="1381" name="矩形 132098"/>
          <p:cNvSpPr/>
          <p:nvPr/>
        </p:nvSpPr>
        <p:spPr>
          <a:xfrm>
            <a:off x="781200" y="479736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2099"/>
          <p:cNvSpPr/>
          <p:nvPr/>
        </p:nvSpPr>
        <p:spPr>
          <a:xfrm>
            <a:off x="755640" y="539424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2100"/>
          <p:cNvSpPr/>
          <p:nvPr/>
        </p:nvSpPr>
        <p:spPr>
          <a:xfrm>
            <a:off x="755640" y="595296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1073" descr=""/>
          <p:cNvPicPr/>
          <p:nvPr/>
        </p:nvPicPr>
        <p:blipFill>
          <a:blip r:embed="rId1"/>
          <a:stretch/>
        </p:blipFill>
        <p:spPr>
          <a:xfrm>
            <a:off x="700200" y="873000"/>
            <a:ext cx="7362720" cy="531504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1074"/>
          <p:cNvSpPr/>
          <p:nvPr/>
        </p:nvSpPr>
        <p:spPr>
          <a:xfrm>
            <a:off x="819000" y="923760"/>
            <a:ext cx="592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1075"/>
          <p:cNvSpPr/>
          <p:nvPr/>
        </p:nvSpPr>
        <p:spPr>
          <a:xfrm>
            <a:off x="692280" y="1469880"/>
            <a:ext cx="5922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76"/>
          <p:cNvSpPr/>
          <p:nvPr/>
        </p:nvSpPr>
        <p:spPr>
          <a:xfrm>
            <a:off x="730080" y="2028960"/>
            <a:ext cx="592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77"/>
          <p:cNvSpPr/>
          <p:nvPr/>
        </p:nvSpPr>
        <p:spPr>
          <a:xfrm>
            <a:off x="768240" y="261288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8"/>
          <p:cNvSpPr/>
          <p:nvPr/>
        </p:nvSpPr>
        <p:spPr>
          <a:xfrm>
            <a:off x="577800" y="317196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79"/>
          <p:cNvSpPr/>
          <p:nvPr/>
        </p:nvSpPr>
        <p:spPr>
          <a:xfrm>
            <a:off x="590400" y="369252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1080"/>
          <p:cNvSpPr/>
          <p:nvPr/>
        </p:nvSpPr>
        <p:spPr>
          <a:xfrm>
            <a:off x="603360" y="4289400"/>
            <a:ext cx="7281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81"/>
          <p:cNvSpPr/>
          <p:nvPr/>
        </p:nvSpPr>
        <p:spPr>
          <a:xfrm>
            <a:off x="730080" y="521640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1082"/>
          <p:cNvSpPr/>
          <p:nvPr/>
        </p:nvSpPr>
        <p:spPr>
          <a:xfrm>
            <a:off x="641520" y="5813280"/>
            <a:ext cx="7294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30049" descr=""/>
          <p:cNvPicPr/>
          <p:nvPr/>
        </p:nvPicPr>
        <p:blipFill>
          <a:blip r:embed="rId1"/>
          <a:stretch/>
        </p:blipFill>
        <p:spPr>
          <a:xfrm>
            <a:off x="774720" y="1144440"/>
            <a:ext cx="7086600" cy="164808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30050"/>
          <p:cNvSpPr/>
          <p:nvPr/>
        </p:nvSpPr>
        <p:spPr>
          <a:xfrm>
            <a:off x="831960" y="1216080"/>
            <a:ext cx="6011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0051"/>
          <p:cNvSpPr/>
          <p:nvPr/>
        </p:nvSpPr>
        <p:spPr>
          <a:xfrm>
            <a:off x="819000" y="1787400"/>
            <a:ext cx="6824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0052"/>
          <p:cNvSpPr/>
          <p:nvPr/>
        </p:nvSpPr>
        <p:spPr>
          <a:xfrm>
            <a:off x="831960" y="2359080"/>
            <a:ext cx="682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9025" descr=""/>
          <p:cNvPicPr/>
          <p:nvPr/>
        </p:nvPicPr>
        <p:blipFill>
          <a:blip r:embed="rId1"/>
          <a:stretch/>
        </p:blipFill>
        <p:spPr>
          <a:xfrm>
            <a:off x="200160" y="1025640"/>
            <a:ext cx="8210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8001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601040" cy="440028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28002"/>
          <p:cNvSpPr/>
          <p:nvPr/>
        </p:nvSpPr>
        <p:spPr>
          <a:xfrm>
            <a:off x="907920" y="1101600"/>
            <a:ext cx="1973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3"/>
          <p:cNvSpPr/>
          <p:nvPr/>
        </p:nvSpPr>
        <p:spPr>
          <a:xfrm>
            <a:off x="870120" y="166068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8004"/>
          <p:cNvSpPr/>
          <p:nvPr/>
        </p:nvSpPr>
        <p:spPr>
          <a:xfrm>
            <a:off x="831960" y="225756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8005"/>
          <p:cNvSpPr/>
          <p:nvPr/>
        </p:nvSpPr>
        <p:spPr>
          <a:xfrm>
            <a:off x="793800" y="280368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8006"/>
          <p:cNvSpPr/>
          <p:nvPr/>
        </p:nvSpPr>
        <p:spPr>
          <a:xfrm>
            <a:off x="793800" y="338760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8007"/>
          <p:cNvSpPr/>
          <p:nvPr/>
        </p:nvSpPr>
        <p:spPr>
          <a:xfrm>
            <a:off x="793800" y="393372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8008"/>
          <p:cNvSpPr/>
          <p:nvPr/>
        </p:nvSpPr>
        <p:spPr>
          <a:xfrm>
            <a:off x="781200" y="447984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8009"/>
          <p:cNvSpPr/>
          <p:nvPr/>
        </p:nvSpPr>
        <p:spPr>
          <a:xfrm>
            <a:off x="641520" y="502596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40289" descr=""/>
          <p:cNvPicPr/>
          <p:nvPr/>
        </p:nvPicPr>
        <p:blipFill>
          <a:blip r:embed="rId1"/>
          <a:stretch/>
        </p:blipFill>
        <p:spPr>
          <a:xfrm>
            <a:off x="355680" y="874800"/>
            <a:ext cx="8610480" cy="36860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140290" descr=""/>
          <p:cNvPicPr/>
          <p:nvPr/>
        </p:nvPicPr>
        <p:blipFill>
          <a:blip r:embed="rId2"/>
          <a:stretch/>
        </p:blipFill>
        <p:spPr>
          <a:xfrm>
            <a:off x="380880" y="4668840"/>
            <a:ext cx="8458200" cy="168588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40291"/>
          <p:cNvSpPr/>
          <p:nvPr/>
        </p:nvSpPr>
        <p:spPr>
          <a:xfrm>
            <a:off x="6470640" y="168588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2"/>
          <p:cNvSpPr/>
          <p:nvPr/>
        </p:nvSpPr>
        <p:spPr>
          <a:xfrm>
            <a:off x="5137200" y="22068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3"/>
          <p:cNvSpPr/>
          <p:nvPr/>
        </p:nvSpPr>
        <p:spPr>
          <a:xfrm>
            <a:off x="3206880" y="26892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4"/>
          <p:cNvSpPr/>
          <p:nvPr/>
        </p:nvSpPr>
        <p:spPr>
          <a:xfrm>
            <a:off x="6610320" y="26766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5"/>
          <p:cNvSpPr/>
          <p:nvPr/>
        </p:nvSpPr>
        <p:spPr>
          <a:xfrm>
            <a:off x="4933800" y="31590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6"/>
          <p:cNvSpPr/>
          <p:nvPr/>
        </p:nvSpPr>
        <p:spPr>
          <a:xfrm>
            <a:off x="8058240" y="317196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7"/>
          <p:cNvSpPr/>
          <p:nvPr/>
        </p:nvSpPr>
        <p:spPr>
          <a:xfrm>
            <a:off x="8362800" y="366696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8"/>
          <p:cNvSpPr/>
          <p:nvPr/>
        </p:nvSpPr>
        <p:spPr>
          <a:xfrm>
            <a:off x="743040" y="4137120"/>
            <a:ext cx="652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9"/>
          <p:cNvSpPr/>
          <p:nvPr/>
        </p:nvSpPr>
        <p:spPr>
          <a:xfrm>
            <a:off x="8286840" y="554688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9265" descr=""/>
          <p:cNvPicPr/>
          <p:nvPr/>
        </p:nvPicPr>
        <p:blipFill>
          <a:blip r:embed="rId1"/>
          <a:stretch/>
        </p:blipFill>
        <p:spPr>
          <a:xfrm>
            <a:off x="446040" y="961920"/>
            <a:ext cx="8505720" cy="432432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9266"/>
          <p:cNvSpPr/>
          <p:nvPr/>
        </p:nvSpPr>
        <p:spPr>
          <a:xfrm>
            <a:off x="6496200" y="987480"/>
            <a:ext cx="398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67"/>
          <p:cNvSpPr/>
          <p:nvPr/>
        </p:nvSpPr>
        <p:spPr>
          <a:xfrm>
            <a:off x="8337600" y="342576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8"/>
          <p:cNvSpPr/>
          <p:nvPr/>
        </p:nvSpPr>
        <p:spPr>
          <a:xfrm>
            <a:off x="4692600" y="489888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8241" descr=""/>
          <p:cNvPicPr/>
          <p:nvPr/>
        </p:nvPicPr>
        <p:blipFill>
          <a:blip r:embed="rId1"/>
          <a:stretch/>
        </p:blipFill>
        <p:spPr>
          <a:xfrm>
            <a:off x="476280" y="898560"/>
            <a:ext cx="8496360" cy="4705200"/>
          </a:xfrm>
          <a:prstGeom prst="rect">
            <a:avLst/>
          </a:prstGeom>
          <a:ln w="0">
            <a:noFill/>
          </a:ln>
        </p:spPr>
      </p:pic>
      <p:sp>
        <p:nvSpPr>
          <p:cNvPr id="1354" name="矩形 138242"/>
          <p:cNvSpPr/>
          <p:nvPr/>
        </p:nvSpPr>
        <p:spPr>
          <a:xfrm>
            <a:off x="6318360" y="8478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3"/>
          <p:cNvSpPr/>
          <p:nvPr/>
        </p:nvSpPr>
        <p:spPr>
          <a:xfrm>
            <a:off x="3930480" y="13176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4"/>
          <p:cNvSpPr/>
          <p:nvPr/>
        </p:nvSpPr>
        <p:spPr>
          <a:xfrm>
            <a:off x="3828960" y="2320920"/>
            <a:ext cx="3281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5"/>
          <p:cNvSpPr/>
          <p:nvPr/>
        </p:nvSpPr>
        <p:spPr>
          <a:xfrm>
            <a:off x="870120" y="2803680"/>
            <a:ext cx="490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6"/>
          <p:cNvSpPr/>
          <p:nvPr/>
        </p:nvSpPr>
        <p:spPr>
          <a:xfrm>
            <a:off x="2901960" y="3273480"/>
            <a:ext cx="550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7"/>
          <p:cNvSpPr/>
          <p:nvPr/>
        </p:nvSpPr>
        <p:spPr>
          <a:xfrm>
            <a:off x="4743360" y="3298680"/>
            <a:ext cx="3713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8"/>
          <p:cNvSpPr/>
          <p:nvPr/>
        </p:nvSpPr>
        <p:spPr>
          <a:xfrm>
            <a:off x="819000" y="432756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9"/>
          <p:cNvSpPr/>
          <p:nvPr/>
        </p:nvSpPr>
        <p:spPr>
          <a:xfrm>
            <a:off x="679320" y="480996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50"/>
          <p:cNvSpPr/>
          <p:nvPr/>
        </p:nvSpPr>
        <p:spPr>
          <a:xfrm>
            <a:off x="679320" y="534348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7218" descr=""/>
          <p:cNvPicPr/>
          <p:nvPr/>
        </p:nvPicPr>
        <p:blipFill>
          <a:blip r:embed="rId1"/>
          <a:stretch/>
        </p:blipFill>
        <p:spPr>
          <a:xfrm>
            <a:off x="222120" y="933480"/>
            <a:ext cx="8191800" cy="339084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7219"/>
          <p:cNvSpPr/>
          <p:nvPr/>
        </p:nvSpPr>
        <p:spPr>
          <a:xfrm>
            <a:off x="5073480" y="276552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6194" descr=""/>
          <p:cNvPicPr/>
          <p:nvPr/>
        </p:nvPicPr>
        <p:blipFill>
          <a:blip r:embed="rId1"/>
          <a:stretch/>
        </p:blipFill>
        <p:spPr>
          <a:xfrm>
            <a:off x="369720" y="933480"/>
            <a:ext cx="8124840" cy="308592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6195"/>
          <p:cNvSpPr/>
          <p:nvPr/>
        </p:nvSpPr>
        <p:spPr>
          <a:xfrm>
            <a:off x="7651800" y="157176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5170" descr=""/>
          <p:cNvPicPr/>
          <p:nvPr/>
        </p:nvPicPr>
        <p:blipFill>
          <a:blip r:embed="rId1"/>
          <a:stretch/>
        </p:blipFill>
        <p:spPr>
          <a:xfrm>
            <a:off x="314280" y="893880"/>
            <a:ext cx="8134560" cy="33433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5171"/>
          <p:cNvSpPr/>
          <p:nvPr/>
        </p:nvSpPr>
        <p:spPr>
          <a:xfrm>
            <a:off x="3765600" y="2117880"/>
            <a:ext cx="11602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2"/>
          <p:cNvSpPr/>
          <p:nvPr/>
        </p:nvSpPr>
        <p:spPr>
          <a:xfrm>
            <a:off x="971640" y="2701800"/>
            <a:ext cx="70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3"/>
          <p:cNvSpPr/>
          <p:nvPr/>
        </p:nvSpPr>
        <p:spPr>
          <a:xfrm>
            <a:off x="1682640" y="3781440"/>
            <a:ext cx="7034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4145" descr=""/>
          <p:cNvPicPr/>
          <p:nvPr/>
        </p:nvPicPr>
        <p:blipFill>
          <a:blip r:embed="rId1"/>
          <a:stretch/>
        </p:blipFill>
        <p:spPr>
          <a:xfrm>
            <a:off x="171360" y="789120"/>
            <a:ext cx="8115480" cy="576252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4146"/>
          <p:cNvSpPr/>
          <p:nvPr/>
        </p:nvSpPr>
        <p:spPr>
          <a:xfrm>
            <a:off x="781200" y="4137120"/>
            <a:ext cx="3738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4147"/>
          <p:cNvSpPr/>
          <p:nvPr/>
        </p:nvSpPr>
        <p:spPr>
          <a:xfrm>
            <a:off x="831960" y="4772160"/>
            <a:ext cx="3738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4148"/>
          <p:cNvSpPr/>
          <p:nvPr/>
        </p:nvSpPr>
        <p:spPr>
          <a:xfrm>
            <a:off x="755640" y="5305320"/>
            <a:ext cx="3738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3121" descr=""/>
          <p:cNvPicPr/>
          <p:nvPr/>
        </p:nvPicPr>
        <p:blipFill>
          <a:blip r:embed="rId1"/>
          <a:stretch/>
        </p:blipFill>
        <p:spPr>
          <a:xfrm>
            <a:off x="210960" y="831960"/>
            <a:ext cx="8087040" cy="453384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3122"/>
          <p:cNvSpPr/>
          <p:nvPr/>
        </p:nvSpPr>
        <p:spPr>
          <a:xfrm>
            <a:off x="870120" y="3184560"/>
            <a:ext cx="5402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3"/>
          <p:cNvSpPr/>
          <p:nvPr/>
        </p:nvSpPr>
        <p:spPr>
          <a:xfrm>
            <a:off x="768240" y="3768840"/>
            <a:ext cx="5402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4"/>
          <p:cNvSpPr/>
          <p:nvPr/>
        </p:nvSpPr>
        <p:spPr>
          <a:xfrm>
            <a:off x="882720" y="4314960"/>
            <a:ext cx="7142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5"/>
          <p:cNvSpPr/>
          <p:nvPr/>
        </p:nvSpPr>
        <p:spPr>
          <a:xfrm>
            <a:off x="907920" y="4886280"/>
            <a:ext cx="7142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1:18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